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D3D-7A6D-4BE2-A674-A90B5329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79B-3E79-4A60-8AAB-FF07D8F9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85-8013-4B69-AEF4-658AA33E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EFA-615C-4442-835D-65A64AFE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83E-CF9C-492A-889A-A2408FCA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785-B729-4924-BABF-45C9A048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724-01B6-4F3F-A47A-8A05F6B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849-D57E-4380-A787-2AE03CC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205-EF07-4932-85B8-3ECFDA2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85C-E876-4497-8524-9EC2132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C51-07CF-49B2-820A-1127D06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F4E-1F7F-495D-AE58-3F54D2B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37A-44F5-4C42-A943-8BDCE4C2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Hey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America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Guess what WE h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WHERE DO I SEND MY MONE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!?!!?!one!!eleven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Good thing you asked there bud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Just like we’re tellin every resident in the USA, mail us your money to PO Box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Thisplace Sumbrella Corporation 666 or call 666-666-6669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Guess! Yes? No? NO! Wrong!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anks to our innovative technology we have made a terrific discovery!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Paying for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maids will be a thing of the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"/>
              </a:rPr>
              <a:t>Too good to be true? Well…. Introduc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Zomboids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Using this unique and magnificent spray can bring the dead back for extended periods of time and UN-live to ser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Need a loyal friend because you don’t have one?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ey can play video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Clean Y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And whatever else your infinite imagination can think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HOW DO YOU MANAGE A ZOMBOID?!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eeeeeeee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ey don’t eat, sleep, or breat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Require less maintenance then a candy brace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Hell, just throw the thing in a ditch behind your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Easy as 1, 2, 3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BLASPHEMY you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ell, when Zomboids are blasting the baddies away on the battlefield our men’s lives are being saved!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hat’s right ki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No need for a draft 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Uncle Sam thank outside the box and no longer will the living per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I don’t know but I’ve been I’ve been told, Zomboids are pwning even though they’re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w WHAT?!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anks for asking gu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For only two payments of 100 dollars we’ll give to you this stupendously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amazing product that can fill the gap in your family vo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CALL NOOOOOOW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: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Don’t wait guys! Pretty soon we’ll be SOOOOOOOLD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7:30:07Z</dcterms:created>
  <dc:creator>mcps</dc:creator>
  <dc:description/>
  <dc:language>en-US</dc:language>
  <cp:lastModifiedBy>mcps</cp:lastModifiedBy>
  <dcterms:modified xsi:type="dcterms:W3CDTF">2009-09-25T12:33:12Z</dcterms:modified>
  <cp:revision>8</cp:revision>
  <dc:subject/>
  <dc:title>Hey America!!</dc:title>
</cp:coreProperties>
</file>